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DA98-3B6D-4D94-A3DB-10C5AA1A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0BCE-E884-4896-BEB5-A7698EE6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C43D-C574-46AD-AFFD-01C791D0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0030-3492-46BE-9D24-A04AC1CE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016-5F93-45FA-93E3-96E5621F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4DB8-C274-4E77-8CCC-325E25A4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1B9F-0B4B-4FFB-9BF5-95A69A2E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A936-57BC-42E0-A4F2-8E2E406D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BC5B-BCE7-423C-9EF7-597C5238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44B-E81E-4448-9C86-518A0D8F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F5B4-23AD-45B9-96AA-72DD7EE7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294D-9851-469A-84C6-61651180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1A1E-1B80-4AC5-891A-3839EE94B5F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75248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ثال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تطوير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7B14-9FF2-4F2D-ACD8-A08E434FC42C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466640"/>
            <a:ext cx="81532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عن ل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295800"/>
            <a:ext cx="79250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عن العاملين وأعدادهم وأعمارهم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4C9B-CB53-49D2-9D97-8E470D4D3EC5}" type="slidenum">
              <a:t>10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عن الموارد البش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مالية عن تكلفة اختيار وتعيين وتدريب ا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C32F-8489-47F6-985D-35E62CEDF2D6}" type="slidenum">
              <a:t>11</a:t>
            </a:fld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60920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اجتم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3438360"/>
            <a:ext cx="792504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كل من نفقات وعوائد المشروعات الاجتماعية وحماية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0227-1C1C-4999-8743-5B61036DD037}" type="slidenum">
              <a:t>12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456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بالقيمة المض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438360"/>
            <a:ext cx="784872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مدى مساهمة كل عامل من عوامل الانتاج في الدخل المحق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6237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F1F2-0DDD-42E1-ABCE-4294BC72A72F}" type="slidenum">
              <a:t>1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85160" y="2242440"/>
            <a:ext cx="7488000" cy="3897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ت التقارير المالية من حي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كمية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و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طريقة عرض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الحد الادنى الضروري من المعلومات التي يجب الإفص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  عن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765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A1EA-9299-489B-9930-5EB4FFCA1D13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92468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ماذا ظهرت الدعوة إلى تطوير التقارير المالية؟؟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3352320"/>
            <a:ext cx="7848360" cy="18766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عدم وفاء التقارير المالية بشكلها الحالي باحتياجات المستفيدين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97B4-3CD3-4259-824F-A5C9BB981DEA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32040"/>
            <a:ext cx="7772400" cy="76824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50000">
                <a:srgbClr val="ffffff"/>
              </a:gs>
              <a:gs pos="100000">
                <a:srgbClr val="c5f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ظاهر هذا التطور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3040" y="2000160"/>
            <a:ext cx="7772400" cy="417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قط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متعددة الأغرا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دورية (الفترية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ستقبل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وجز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للعامل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عن الموارد البشر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حاسبة الاجتم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بالقيمة المضاف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9E24-02EF-49F7-87F6-0637D445E173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قط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367080"/>
            <a:ext cx="822960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الافصاح حسب الانتاج أو المناطق الجغراف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2A4-D090-41EC-B006-CAB0EEA320CA}" type="slidenum">
              <a:t>5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8205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متعددة الاغرا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438360"/>
            <a:ext cx="800100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عدة طرق مثل تكلفة الاحلال أو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E73-96B0-431A-AE64-290D93739416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84872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دورية (الفتر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فترات قصيرة ربع سنوية مث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5B5-2F01-4036-8D26-BE7AF301FCD1}" type="slidenum">
              <a:t>7</a:t>
            </a:fld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153792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ستقبل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367080"/>
            <a:ext cx="81536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وائم معتمدة على تنبؤات مستقب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263F-D3FE-484B-9511-DA9315C88285}" type="slidenum">
              <a:t>8</a:t>
            </a:fld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وجز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7180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مختص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2623-1E75-4AD3-AB0D-E52D4D609FE5}" type="slidenum">
              <a:t>9</a:t>
            </a:fld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7T21:54:19Z</dcterms:modified>
  <cp:revision>28</cp:revision>
  <dc:subject/>
  <dc:title>التحليل المالي والائتماني</dc:title>
</cp:coreProperties>
</file>